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F468-D571-4766-8D6B-04E19996B58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0A29F-41D3-4DC8-9A47-4AC3B5AD7C9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0FEC5-D1F9-4941-935E-CDC57F7692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3873-1BA7-4AAA-987D-1C9AE9731CC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D3D165-29FB-4137-A3F0-911CDEDB5F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D72A7-EAAE-4BD7-945A-BB37F535643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DD68-7288-455B-8D25-1870BFAD471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A520-EFD5-46C5-B6EF-3F6364051E7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09334-0C4D-43A5-87F2-2982DEE9F56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EDB6EC-FD68-48D7-BE3C-9EA1ACA1EF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0D983-9412-48AC-92D4-22C424E6CA8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2C6A0D-29DA-417B-AFE4-5F6BB2D24A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EC18-2377-4441-8803-0987C753A32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FBB1D-19F1-4A14-A5E2-D575A2C4B58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FF04E-37F8-49D5-81F4-8B45EE15693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79507-A32F-4AF1-A3AF-509A9D58C98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DB9-9675-4656-8E62-13174D3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0E0-9CE4-4ED7-B176-DDF9CCE1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898-8845-4DD6-B988-FEF866CC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7E9-69C0-4703-AEEB-2FF694A2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BF7-201E-4881-B5D4-42DC478A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4C29-0C3B-447C-8885-6ADB4D57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E42F-EB72-4544-A381-5DF685B0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788E-2F0B-4A90-88D2-F996C78F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2AE1-3F86-40CB-A2CE-077C4396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B6F7-1B5D-4818-AE08-D6F42BA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BEDF-5E9A-4586-8BF5-7EA9426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3DA-9EC1-4190-A493-4D0554CA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6CF-8590-469C-A9B4-27011DE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6D31-54BB-41EF-9AD5-AD885D3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F29-578B-44E8-B1B6-4F13FDB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15D-E1E7-4433-8B43-2C9F550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1F0-B8F7-4208-BFBD-E9B2D49B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B593-31BF-4383-826D-E64D796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A90D-F630-4FF2-8B2D-91C1787C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B11B-752E-4B20-941B-573BAD9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5B9A-A38C-447E-A9F9-CCB94691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D4BD-DCD7-4BB5-A64A-8DBC580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C53-5F89-4E00-A4E6-FE7DCFA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DAE4-DA13-49E1-9E26-FA518E2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C1BF-3346-428B-9167-06E135A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E941-EE00-4B89-8CD1-2D03270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EF25-26CF-4158-B450-A8B2017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4308-934D-4CF9-BB5F-24B4656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4AC8-79A3-400E-9ECC-68787AD0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87A3-5D52-4893-8A8A-A4453EA0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3AD1-6520-496A-A23B-2E74B614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414C-303B-493C-AA2A-8F29E625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2C459-9BD3-4F67-85D8-2D65531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C7B-0187-46CB-BD3F-94C7BF3F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1044-D020-4B63-887F-55DC30A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C16B-161C-4A28-9191-007FBE7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4D00-EA8D-4730-832C-8F9028CD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D8AB-4761-429D-A9E5-96E1CDB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06A1-8EDD-4904-A304-359082C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0523-C6F7-4FE6-B527-4317D52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8FE2-773D-419F-8471-4C048F1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9C28-DBC7-4E8C-9919-FD601DC2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0669-0EA4-4FF2-8465-245BCB8C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68599-CC70-4AF4-94B4-8CEB42F1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0D1-E774-4D4A-B3DE-B1E3D89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A7B4-C3FA-4690-8688-1A1EA76C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119D-BA95-4E5A-93C5-AE4598A5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2D5B-EDBB-48C3-BD17-837CE94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5BDD-9836-43BE-AD1F-8C8C2A8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3CA9-865C-4DA1-941A-0F40279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7705-8EA8-4BDE-A1E1-7689DCB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7B4B-5B96-49D0-9DC3-4CA3434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93B70-CB8A-4F07-A111-DC5002D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855B-F82E-4F29-81E5-C6A8BE87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8FDF-C146-442F-9836-7DBFA917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5CA-CB6D-464E-899B-24CEEF9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EC37-CE8B-4B77-A84A-CE7B54F0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C68C-EB78-4045-AE51-3A423DF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0ECA-97D4-4917-AE6B-01511E8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02F2-CF1B-49A2-89B8-065D94E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7446C-D333-42E4-97C7-318511D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3815-4916-48EE-8542-7E6CD42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B997-39CE-4F50-9344-234A116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CC4B-0BDD-41AA-A242-2AB20F7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5355-9AF7-4173-A419-891E0878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CB16-025E-4D0D-A293-728FFC39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9A3-BC90-45DF-AAFC-54F850B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57AE-F29E-417C-9351-C8FE7093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16C80-452C-4625-AF82-C7C27F52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5563-FE4D-46F5-A821-5E161DBA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EFC7E-39FC-4684-AEF2-5272B0C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FA63-DF46-4D54-9860-440B599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A35E-ECB1-41B2-9E78-A719887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B6D1-2F51-4A32-BA6C-D4C3F034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8928F-846F-4BD6-BEF8-4AF8632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3ABC-7604-47B2-82FD-AF01E3E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3DCA-3807-4129-9B54-38C2F770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2B5-CDFF-4AF7-894B-FC21CD9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D378-D3F9-4089-92BF-45A47DBE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E6849-6B43-4860-AA21-C0F036A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1EAB-F286-472F-880E-17EA925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FACB-539A-46CC-A1EB-D8D1248A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3CD7-14D1-4EEB-B3BD-79F54765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747E-6BFD-4EF3-8A52-CD8D8048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65F8-8194-4412-B217-02EA070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CFBE-2D86-4FA8-B3BD-263E8269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A26A-4D7E-46EA-9ABC-C5BF874D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D1BE-2903-46F7-B189-A0841B5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FA5-14B2-426B-B504-06ECCFE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1880" y="365040"/>
            <a:ext cx="7520040" cy="25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4BA09-F5F0-4494-9CF9-0AB18A6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AE7A-0360-4438-8F2B-13795C1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959F3-F66A-4555-AA86-17CEE54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8AE1-FD11-4317-9C2B-1F573EA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1880" y="2968560"/>
            <a:ext cx="7520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3741-742E-474F-ADE4-9B9459E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109980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5320" y="2968560"/>
            <a:ext cx="3669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B1488-66B7-4390-AF24-E20B6EC1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456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7600" y="109980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188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456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7600" y="2968560"/>
            <a:ext cx="24213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3F5D-FECA-47CB-885E-F77E8A31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72720" y="6578280"/>
            <a:ext cx="1042920" cy="3668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6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5942160"/>
            <a:ext cx="4722840" cy="1188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4440" y="6275160"/>
            <a:ext cx="322200" cy="35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6B3436-0CE6-4435-850A-9FF1516B62C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2"/>
          <p:cNvSpPr/>
          <p:nvPr/>
        </p:nvSpPr>
        <p:spPr>
          <a:xfrm>
            <a:off x="-1440" y="-1440"/>
            <a:ext cx="9145440" cy="685944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6859440"/>
              <a:gd name="textAreaBottom" fmla="*/ 6859800 h 685944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960" y="6386400"/>
            <a:ext cx="1614600" cy="28440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126120"/>
            <a:ext cx="4722840" cy="8222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ACADÉMIE DE TOULOUSE – M. DOERFLINGER - IEN LETTRES HISTOIRE  AM. GIACOMETTI - IEN ECONOMIE GESTION F. BUISSON - PLP ECONOMIE 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4440" y="6195600"/>
            <a:ext cx="322200" cy="5158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E066C-A6D7-47EF-BE97-2F5E9AB4B349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85680" y="6616440"/>
            <a:ext cx="1043280" cy="2840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320" y="6470280"/>
            <a:ext cx="307800" cy="27324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D4A05B-D7A2-4B5C-B28C-474100429924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985680" y="6616440"/>
            <a:ext cx="1043280" cy="2840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320" y="6454800"/>
            <a:ext cx="307800" cy="2728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161D6D-172D-42CD-A165-C625A006E1FF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985680" y="6616440"/>
            <a:ext cx="1043280" cy="2840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320" y="6454800"/>
            <a:ext cx="307800" cy="2728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B2793-73D3-4901-80F8-6BED65BF405C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985680" y="6616440"/>
            <a:ext cx="1043280" cy="2840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0640" y="6470280"/>
            <a:ext cx="308160" cy="27324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67E1D4-0226-40C2-B77B-2834B7C432F6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1"/>
          <p:cNvSpPr/>
          <p:nvPr/>
        </p:nvSpPr>
        <p:spPr>
          <a:xfrm>
            <a:off x="-3240" y="6330960"/>
            <a:ext cx="3575160" cy="527040"/>
          </a:xfrm>
          <a:custGeom>
            <a:avLst/>
            <a:gdLst>
              <a:gd name="textAreaLeft" fmla="*/ 0 w 3575160"/>
              <a:gd name="textAreaRight" fmla="*/ 3575520 w 3575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"/>
          <p:cNvSpPr/>
          <p:nvPr/>
        </p:nvSpPr>
        <p:spPr>
          <a:xfrm>
            <a:off x="-1440" y="6324480"/>
            <a:ext cx="9145440" cy="53352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985680" y="6616440"/>
            <a:ext cx="1043280" cy="28404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480" y="6454800"/>
            <a:ext cx="254160" cy="2728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BEC6F-11AC-47FA-B158-01082B90C9F6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1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"/>
          <p:cNvSpPr/>
          <p:nvPr/>
        </p:nvSpPr>
        <p:spPr>
          <a:xfrm rot="5400000">
            <a:off x="434880" y="-43200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1880" y="1099800"/>
            <a:ext cx="75200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0760" y="6335640"/>
            <a:ext cx="1377720" cy="28440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Franklin Gothic Book"/>
                <a:ea typeface="Arial Unicode MS"/>
              </a:rPr>
              <a:t>06/05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txBody>
          <a:bodyPr lIns="9000" rIns="9000" tIns="9000" bIns="9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  <a:ea typeface="Arial Unicode MS"/>
              </a:rPr>
              <a:t>ACADÉMIE DE TOULOUSE – M. DOERFLINGER - IEN LETTRES HISTOIRE  AM. GIACOMETTI - IEN ECONOMIE GESTION F. BUISSON - PLP ECONOMIE 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040" y="6275160"/>
            <a:ext cx="355680" cy="35532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6BACE5-6018-475E-BBCA-3E0775669F2A}" type="slidenum">
              <a:rPr b="0" lang="fr-FR" sz="16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onisep.fr/Mes-infos-regionales/Midi-Pyrenees/Publications/Lettre-d-information-regionale/Lettre-d-information-n-19/Eco-Evolution-entreprise-lyceenn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oland-garros.entmip.fr/lectureFichiergw.do?ID_FICHIER=493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 rot="19080000">
            <a:off x="798120" y="1810800"/>
            <a:ext cx="629460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 rot="19140000">
            <a:off x="1762200" y="2811240"/>
            <a:ext cx="65088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  <a:ea typeface="Tunga"/>
              </a:rPr>
              <a:t>ATELIERS RÉDACTIO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POSITION D’ACTIVITÉS PÉDAGOG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</a:rPr>
              <a:t>LYON – 10 &amp; 11 mai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475920"/>
            <a:ext cx="7520040" cy="4366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365f91"/>
                </a:solidFill>
                <a:latin typeface="Calibri"/>
              </a:rPr>
              <a:t>FORME, CONTENU et ENJEUX DU MESSAGE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1880" y="1099800"/>
            <a:ext cx="75200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Comment traduire son intention et atteindre sa cible ?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Le choix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des mot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des types de phrases et de leur articulation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des temps et modes des verbes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des illu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de la mise en page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amène à produire un message pertinent et cohérent avec les supports</a:t>
            </a:r>
            <a:br>
              <a:rPr sz="1800"/>
            </a:b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et la cible, ce qui implique une bonne connaissance du lexique </a:t>
            </a:r>
            <a:br>
              <a:rPr sz="1800"/>
            </a:b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et de la syntaxe à construire.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826920" y="1268280"/>
            <a:ext cx="752184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TELIER DE TRANSPOSITION RÉDACTIONNEL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Oval 2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A51E46-FA9A-4454-B369-5B971D05DA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Espace réservé du pied de page 4"/>
          <p:cNvSpPr/>
          <p:nvPr/>
        </p:nvSpPr>
        <p:spPr>
          <a:xfrm>
            <a:off x="349236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822240" y="351000"/>
            <a:ext cx="752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SITUATION PROFESS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2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4C145-AA07-4181-A9D5-2755D4B77C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368360" cy="16304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2087640" y="1079640"/>
            <a:ext cx="594036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2"/>
              </a:rPr>
              <a:t>Eco Evolu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CHOLA INGENI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ntreprise Lycéenne à vocation pédagog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atut jurid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 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ssociation loi 19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omicilia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ycée des Métiers ROLAND GARR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2 rue Mathaly - 31200 TOULOU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fication R.N.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W313015749 - Haute-Garonne (Midi Pyrénées)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° de paru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0110016 en date du 04 avril 201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05.61.13.54.4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05.61.13.58.47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7380360" y="331164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6"/>
          <p:cNvSpPr/>
          <p:nvPr/>
        </p:nvSpPr>
        <p:spPr>
          <a:xfrm>
            <a:off x="466560" y="3780000"/>
            <a:ext cx="67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ranklin Gothic Book"/>
              </a:rPr>
              <a:t>Activité principale</a:t>
            </a:r>
            <a:r>
              <a:rPr b="0" lang="fr-FR" sz="1600" spc="-1" strike="noStrike">
                <a:solidFill>
                  <a:srgbClr val="000000"/>
                </a:solidFill>
                <a:latin typeface="Franklin Gothic Book"/>
              </a:rPr>
              <a:t> : production de briquettes densifiées issues d'une opération de recyclage - combustibles pour cheminées, poêles à bois, poêles scandinaves, insert, barbecue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66560" y="4986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Franklin Gothic Book"/>
              </a:rPr>
              <a:t>L'entreprise lycéenne offre, à travers des activités réelles ou simulées, un cadre cohérent qui permet de couvrir l'ensemble du référentiel Bac Pro Gestion-Administration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Espace réservé du pied de page 9"/>
          <p:cNvSpPr/>
          <p:nvPr/>
        </p:nvSpPr>
        <p:spPr>
          <a:xfrm>
            <a:off x="356400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822240" y="351000"/>
            <a:ext cx="752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SITUATION PROFESS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2195640" y="782640"/>
            <a:ext cx="64800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Le/la stagiaire, qui prépare un Bac Professionnel Gestion-Administration, intègre l’entreprise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Eco Evolution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, une PME toulousaine qui propose des solutions écologiques dans le secteur du chauffage et des énergies renouvelab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Ces six derniers mois, les indicateurs sociaux de l’entreprise révèlent une augmentation des incidents (ex : chutes de palettes) et des accidents du travail dans les ateliers de production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situation professionnelle simulé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S’ils sont heureusement sans gravité, leur fréquence a conduit à l’analyse des postes de travail et du comportement des salariés : on constate des négligences dans l’application de règles de sécurité simples et le non-respect des zones réglementées de circula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Le/la stagiaire est chargé(e) de préparer, pour une diffusion par affichage dynamique, un support rappelant les règles de sécurit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4C04B-7D45-458E-8518-42C6A1725C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407" name="Espace réservé du pied de page 7"/>
          <p:cNvSpPr/>
          <p:nvPr/>
        </p:nvSpPr>
        <p:spPr>
          <a:xfrm>
            <a:off x="363528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826920" y="209520"/>
            <a:ext cx="75218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Franklin Gothic Medium"/>
              </a:rPr>
              <a:t>Un enseignement en co-disciplinarité professeur de français (PLP Lettres-histoire ou PLP langue-Lettres) et professeur d’économie-gestion, chaque professeur apportant ses compétences disciplinaires spécifiques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2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0A4C1-53F0-4A2B-9A3D-65CCABC099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Espace réservé du pied de page 5"/>
          <p:cNvSpPr/>
          <p:nvPr/>
        </p:nvSpPr>
        <p:spPr>
          <a:xfrm>
            <a:off x="356400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Diagramme 7" descr=""/>
          <p:cNvPicPr/>
          <p:nvPr/>
        </p:nvPicPr>
        <p:blipFill>
          <a:blip r:embed="rId1"/>
          <a:stretch/>
        </p:blipFill>
        <p:spPr>
          <a:xfrm>
            <a:off x="328680" y="1352520"/>
            <a:ext cx="836460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3505320" y="6338880"/>
            <a:ext cx="47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00040" y="1000080"/>
          <a:ext cx="8001000" cy="49719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872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88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comptes rendus des instances représentativ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extrait de bilan soci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extraits d’indicateurs sociau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censement des habilitations e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isations nécessaires à l’exercice de l’emplo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a mise en place et l’organisation d’actions collectives de sensibilisation à la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procédures et consignes de santé - sécurité à transmett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 choix de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consignes, de rédaction, de diffusion des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règles de confidential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, savoirs technolog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risques au travail 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’ergonom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caractéristiques des postes de trava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’organisation de la sécurité dans les locaux de l’entrepri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notions de danger et de risq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techniques de présentation d’un docu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a réglementation en matière de sécurité et d’amélioration des conditions de travail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Cambria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cture et écriture d’un genre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s consignes de santé et de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’injonction, la prescription, la recommandation et les locutions associé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s renvois légaux et réglement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 lexique propre à la santé et à la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a disposition du texte : énumé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 temps des verbes : impératif et infinitif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Mise à jour ou amélioration des documents internes relatifs à la santé et à la sécurité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pérage des fonctions professionnelles nécessitant des habilitations, des autorisations spécif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echnicité du contenu du support : références ergonomiques, médicales, règlement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eille règlementaire sur des postes ciblé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1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pport inadapté aux consignes de diffu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Obligation de modification de postes de trava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rreurs ou imprécisions de conten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supports associés aux procédures santé - sécurité sont mis en forme, publiés et diffusé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Produire des supports associés aux procédures santé -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Cohérence et lisibilité des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5"/>
          <p:cNvSpPr/>
          <p:nvPr/>
        </p:nvSpPr>
        <p:spPr>
          <a:xfrm>
            <a:off x="500040" y="288720"/>
            <a:ext cx="8496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4. Gestion administrative de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 sociale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336699"/>
                </a:solidFill>
                <a:latin typeface="Arial"/>
                <a:ea typeface="Times New Roman"/>
              </a:rPr>
              <a:t>2.4.3. Participation à la mise en œuvre de procédures relevant de la santé et de la sécurité</a:t>
            </a:r>
            <a:r>
              <a:rPr b="1" lang="fr-FR" sz="1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46"/>
          <p:cNvSpPr/>
          <p:nvPr/>
        </p:nvSpPr>
        <p:spPr>
          <a:xfrm>
            <a:off x="428760" y="142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ANCRAGE DANS LE RÉFÉRENTIEL  BAC PRO 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08000" y="-281160"/>
            <a:ext cx="8928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En résumé… Trois propositions d’activités pédagogiques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2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3FB812-9D44-4B40-BB6A-AF47A5BA90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311040" y="901800"/>
            <a:ext cx="8472600" cy="4981320"/>
          </a:xfrm>
          <a:prstGeom prst="rect">
            <a:avLst/>
          </a:prstGeom>
          <a:ln w="0">
            <a:noFill/>
          </a:ln>
        </p:spPr>
      </p:pic>
      <p:sp>
        <p:nvSpPr>
          <p:cNvPr id="419" name="Espace réservé du pied de page 5"/>
          <p:cNvSpPr/>
          <p:nvPr/>
        </p:nvSpPr>
        <p:spPr>
          <a:xfrm>
            <a:off x="349236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826920" y="1268280"/>
            <a:ext cx="752184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TELIER D’OBSERV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&amp; D’ANALYSE DU RÉ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AEDB7C-8D38-47D7-A8AD-CEDA301753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Espace réservé du pied de page 5"/>
          <p:cNvSpPr/>
          <p:nvPr/>
        </p:nvSpPr>
        <p:spPr>
          <a:xfrm>
            <a:off x="3419640" y="6308640"/>
            <a:ext cx="4722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CONTEXTE PROFESSIONNEL DE LA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2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E9959-7C5E-4EBD-850B-9E8DF6152A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5003640" cy="28810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4140360" y="1207800"/>
            <a:ext cx="41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Calibri"/>
              </a:rPr>
              <a:t>COMMUNICATION INTE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Calibri"/>
              </a:rPr>
              <a:t>SUR ÉCRAN PLA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INFORMATIONS DIFFUSÉES EN BOU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95280" y="4230360"/>
            <a:ext cx="85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Affichage dynamiq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Outil de communication adossé à une solution multimédi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Diffusion d’informations graphiques et rédactionnelles en direction d’un public donné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Placée stratégiquement : halls d’accueil, lieux de passage ou de rassemble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nformation cible visiteurs ou salariés (communication inter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79280" y="126828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548dd4"/>
                </a:solidFill>
                <a:latin typeface="Calibri"/>
              </a:rPr>
              <a:t>Organism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ntrale Nucléaire de Golfe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Tarn et Garon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548dd4"/>
                </a:solidFill>
                <a:latin typeface="Calibri"/>
              </a:rPr>
              <a:t>Opérateu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8f8f8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3284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une diapositive  = une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Espace réservé du pied de page 9"/>
          <p:cNvSpPr/>
          <p:nvPr/>
        </p:nvSpPr>
        <p:spPr>
          <a:xfrm>
            <a:off x="356400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826920" y="176040"/>
            <a:ext cx="7521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TRAIT DU DIAPORAMA </a:t>
            </a:r>
            <a:br>
              <a:rPr sz="32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Diapositive n°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2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CB4937-8AF4-41C2-B678-305E9FC7817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Espace réservé du pied de page 5"/>
          <p:cNvSpPr/>
          <p:nvPr/>
        </p:nvSpPr>
        <p:spPr>
          <a:xfrm>
            <a:off x="327672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ZoneTexte 1"/>
          <p:cNvSpPr/>
          <p:nvPr/>
        </p:nvSpPr>
        <p:spPr>
          <a:xfrm>
            <a:off x="108000" y="653580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Avec l’aimable autorisation de l’entreprise ED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7" descr="ecran 4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500280" y="6286680"/>
            <a:ext cx="4722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00040" y="1000080"/>
          <a:ext cx="8001000" cy="48340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872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9092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mptes rendus des instances représentativ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extrait de bilan soci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’indicateurs sociau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censement des habilitations e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isations nécessaires à l’exercice de l’emplo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a mise en place et l’organisation d’actions collectives de sensibilisation à la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procédures et consignes de santé - sécurité à transmett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 choix de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consignes, de rédaction, de diffusion des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de confidential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, savoirs technolog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risques au travail 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ergonom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s postes de trava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’organisation de la sécurité dans les locaux de l’entrepri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Les notions de danger et de risq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es techniques de présentation d’un docu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0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- La réglementation en matière de sécurité et d’amélioration des conditions de travail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Cambria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cture et écriture d’un genre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s consignes de santé et de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’injonction, la prescription, la recommandation et les locutions associé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s renvois légaux et réglement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 lexique propre à la santé et à la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a disposition du texte : énumé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e temps des verbes : impératif et infinitif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e à jour ou amélioration des documents internes relatifs à la santé et à la sécurité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pérage des fonctions professionnelles nécessitant des habilitations, des autorisations spécifiq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echnicité du contenu du support : références ergonomiques, médicales, règlementai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eille règlementaire sur des postes ciblé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1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pport inadapté aux consignes de diffu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Obligation de modification de postes de trava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rreurs ou imprécisions de conten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supports associés aux procédures santé - sécurité sont mis en forme, publiés et diffusé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ire des supports associés aux procédures santé - sécurit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érence et lisibilité des sup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5" name="Rectangle 45"/>
          <p:cNvSpPr/>
          <p:nvPr/>
        </p:nvSpPr>
        <p:spPr>
          <a:xfrm>
            <a:off x="500040" y="288720"/>
            <a:ext cx="8496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4. Gestion administrative de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 sociale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336699"/>
                </a:solidFill>
                <a:latin typeface="Arial"/>
                <a:ea typeface="Times New Roman"/>
              </a:rPr>
              <a:t>2.4.3. Participation à la mise en œuvre de procédures relevant de la santé et de la sécurité</a:t>
            </a:r>
            <a:r>
              <a:rPr b="1" lang="fr-FR" sz="1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6"/>
          <p:cNvSpPr/>
          <p:nvPr/>
        </p:nvSpPr>
        <p:spPr>
          <a:xfrm>
            <a:off x="428760" y="142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ANCRAGE DANS LE RÉFÉRENTIEL  BAC PRO 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811080" y="907920"/>
          <a:ext cx="7520040" cy="5454720"/>
        </p:xfrm>
        <a:graphic>
          <a:graphicData uri="http://schemas.openxmlformats.org/drawingml/2006/table">
            <a:tbl>
              <a:tblPr/>
              <a:tblGrid>
                <a:gridCol w="7520040"/>
              </a:tblGrid>
              <a:tr h="24372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f81bd"/>
                      </a:solidFill>
                    </a:lnT>
                    <a:lnB w="28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OBJET DU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49644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el de consignes de sécurité, de comport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DOMAINE – CONTEX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49644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vention, Sécuri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EMETTE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10080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VISÉ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7444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tes les personnes susceptibles de lire l’écr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ersonnels de l’entreprise et visiteur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COMPOSITION - PRÉ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124344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deux parties 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e gauche, une illustrati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e droite, un tex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ature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16"/>
          <p:cNvSpPr/>
          <p:nvPr/>
        </p:nvSpPr>
        <p:spPr>
          <a:xfrm>
            <a:off x="396720" y="260280"/>
            <a:ext cx="824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ANALYSE DE LA SITUATION D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8477280" y="6400800"/>
            <a:ext cx="36180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C28BCC-EEFF-41F8-A8E8-6A830773BA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Espace réservé du pied de page 19"/>
          <p:cNvSpPr/>
          <p:nvPr/>
        </p:nvSpPr>
        <p:spPr>
          <a:xfrm>
            <a:off x="3492360" y="6308640"/>
            <a:ext cx="4722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52004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8360" y="333360"/>
          <a:ext cx="8424720" cy="583236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3081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FORME, CONTENU et ENJEUX DU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5524200">
                <a:tc>
                  <a:txBody>
                    <a:bodyPr lIns="55080" rIns="55080" tIns="0" bIns="0" anchor="t">
                      <a:noAutofit/>
                    </a:bodyPr>
                    <a:p>
                      <a:pPr marL="95400" indent="-95400" algn="ctr">
                        <a:lnSpc>
                          <a:spcPct val="10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endParaRPr b="0" lang="en-US" sz="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 algn="ctr">
                        <a:lnSpc>
                          <a:spcPct val="10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Comment convoquer le regard sur des consignes de sécurité 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 algn="ctr">
                        <a:lnSpc>
                          <a:spcPct val="102000"/>
                        </a:lnSpc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365f91"/>
                          </a:solidFill>
                          <a:latin typeface="Calibri"/>
                        </a:rPr>
                        <a:t>Comment rendre le message efficace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 algn="ctr">
                        <a:lnSpc>
                          <a:spcPct val="102000"/>
                        </a:lnSpc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par la juxtaposition d’une image et d’un tex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La photo accroche le reg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- Une image réel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- La représentation des acteurs et destinataires du message: un groupe de personnes, non identifiées par leur tenue vestimentaire, se dirigeant vers un site industri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- Une unité de couleurs (bleu et orange) = </a:t>
                      </a:r>
                      <a:r>
                        <a:rPr b="0" lang="fr-FR" sz="20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D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= un message adressé à tous ceux qui fréquentent le site industri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Un texte projeté quelques secon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- Une suite de phrases simples, juxtaposé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- La déclinaison d’étapes successives, identifiées par des interlignes, des majuscules, des virgu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255680"/>
                          <a:tab algn="l" pos="2170080"/>
                          <a:tab algn="l" pos="3084480"/>
                          <a:tab algn="l" pos="376704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= un écrit sous forme de procédure d’entreprise</a:t>
                      </a:r>
                      <a:r>
                        <a:rPr b="1" lang="fr-FR" sz="1800" spc="-1" strike="noStrike">
                          <a:solidFill>
                            <a:srgbClr val="28374a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3" name="Oval 5"/>
          <p:cNvSpPr/>
          <p:nvPr/>
        </p:nvSpPr>
        <p:spPr>
          <a:xfrm>
            <a:off x="8477280" y="6400800"/>
            <a:ext cx="36180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8F33D3-74F8-4387-B45E-2D8774E776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Espace réservé du pied de page 7"/>
          <p:cNvSpPr/>
          <p:nvPr/>
        </p:nvSpPr>
        <p:spPr>
          <a:xfrm>
            <a:off x="3505320" y="6338880"/>
            <a:ext cx="472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CADÉMIE DE TOULOUSE – M. DOERFLINGER - IEN LETTRES HISTOIRE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AM. GIACOMETTI - IEN ECONOMIE GESTI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  <a:ea typeface="Arial Unicode MS"/>
              </a:rPr>
              <a:t>F. BUISSON - PLP ECONOMIE GES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520040" cy="36504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365f91"/>
                </a:solidFill>
                <a:latin typeface="Calibri"/>
              </a:rPr>
              <a:t>FORME, CONTENU et ENJEUX DU MESSAGE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1880" y="1100160"/>
            <a:ext cx="75200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4320" indent="-9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Un texte construit et rythmé par la syntax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 suite de phrases simples et courte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Des types de phrases : exclamative,  déclarativ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 alternance des phrases déclaratives affirmatives et négatives (ordres à connotation de « commandements ») et un positionnement spécifiqu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 Une modélisation: sujet, verbe=caractère injonctif du message.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= des phrases proches de formules, de slogans faciles à retenir et à mettre en applic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-9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Un emploi récurrent de la première personne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- </a:t>
            </a: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Une situation d’énonciation complexe : qui est « Je » ?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 emploi répétitif du « Je »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L’engagement de la responsabilité personnell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4363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365f91"/>
                </a:solidFill>
                <a:latin typeface="Calibri"/>
              </a:rPr>
              <a:t>FORME, CONTENU et ENJEUX DU MESSAGE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90360" indent="-90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L’emploi des verbes, leur nombre, leur catégorie, leur conjugaison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succession de verbes d’action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 simultanéité des actions à bannir (le gérondif est contré par une négation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 ordonnancement des actions et des injonctions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 contribution au climat de sérénité et à la responsabilisation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-90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Une conjugaison au présent de l’indicatif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-90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= Une application « maintenant, ici, par tous » 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-90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Un lexique ciblé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vocabulaire simple dont le sens est compris par tous.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Les champs lexicaux de la marche et du regard = je regarde où je march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= La mise en exergue de situations ordinaires accidentogènes.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-90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Une écriture</a:t>
            </a: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28374a"/>
                </a:solidFill>
                <a:latin typeface="Calibri"/>
              </a:rPr>
              <a:t>spécifiqu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- Une tonalité légère voire humoristique (jeu de mots, jeu sur les sons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-90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Une mise en relief de mots (majuscules, emplacement) dont le rappel de l’enjeu du message (derniers mots « J’agis en sécurité ») 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90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Calibri"/>
              </a:rPr>
              <a:t>= Une incitation à agi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BUISSON F</dc:creator>
  <dc:description/>
  <dc:language>en-US</dc:language>
  <cp:lastModifiedBy>pat</cp:lastModifiedBy>
  <dcterms:modified xsi:type="dcterms:W3CDTF">2012-06-03T21:35:52Z</dcterms:modified>
  <cp:revision>246</cp:revision>
  <dc:subject>ATELIERS REDACTIONNELS SEMINAIRE</dc:subject>
  <dc:title>Présentation PowerPoint</dc:title>
</cp:coreProperties>
</file>